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176-4A37-4180-BA03-278BBE2F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1ED-AA81-4FA3-83BA-B4A1ED17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514-6CD7-4A45-A743-918AE68C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C84-F917-439A-B137-A068E925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361-C20F-4C9F-AFCC-CC1A529D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E29-FDBF-4264-9DC0-EE241AFA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37C-9227-40EB-9F19-3C987FCB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BD5-9763-4998-8920-A3E56E5D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E6E-1FEE-4FA8-81D6-AB976B55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ED3-DAA8-4D5B-9580-D940D56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F31-36FD-4820-9068-A6D41B43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980-F3C4-4EF0-BC19-2AEC8D6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0262-5127-46A6-9767-ECA56874C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for the Common Core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. Nesi – I.S. 2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ibrary Spring C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y 18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pipha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2362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formity of curriculum will not necessarily equal CCS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 Merging:  As long as we wa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niformity and CCS, why not address both issues at o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urriculum mapping sit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ommoncore.org/maps/index.php/maps/grade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ay not have to completely re-invent the wheel after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, Turn and Talk Di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all that apply on the Think Turn &amp; Talk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o provide brief explanations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a neighbor and talk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 and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ed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 Activities and 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Plan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d Explor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lists for the units/FAM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ders of print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meetings per week to hammer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work on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unit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do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book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general plan for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next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the year after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take a few moments to evaluate this workshop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is Sounds Oddly Familiar…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Finding the Overlap Between CCS and IF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complete the Do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CS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C Phases &amp; Indic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mmon Core Standar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Ostrich.bmp"/>
          <p:cNvPicPr/>
          <p:nvPr/>
        </p:nvPicPr>
        <p:blipFill>
          <a:blip r:embed="rId1"/>
          <a:stretch/>
        </p:blipFill>
        <p:spPr>
          <a:xfrm>
            <a:off x="2127240" y="1974960"/>
            <a:ext cx="4968720" cy="40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First … Mostly Fear &amp; Den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9-2010 –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ELA curriculum mapping for unifor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 2010 CCS work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w grab materials re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’ve got until 2014…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n … The Realiz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ing and “dumping” of materials would not be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tent of the paradigm sh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ount of work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llowed by Pa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panic-woman-face.jpg"/>
          <p:cNvPicPr/>
          <p:nvPr/>
        </p:nvPicPr>
        <p:blipFill>
          <a:blip r:embed="rId1"/>
          <a:stretch/>
        </p:blipFill>
        <p:spPr>
          <a:xfrm>
            <a:off x="2736720" y="1743120"/>
            <a:ext cx="3749760" cy="42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Then More Common Core Workshops and Den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2 ostriches.jpg"/>
          <p:cNvPicPr/>
          <p:nvPr/>
        </p:nvPicPr>
        <p:blipFill>
          <a:blip r:embed="rId1"/>
          <a:stretch/>
        </p:blipFill>
        <p:spPr>
          <a:xfrm>
            <a:off x="2432160" y="1743120"/>
            <a:ext cx="4286160" cy="41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all Saturday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“task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’ve known this all al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ing the task is not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” tasks should inform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ELA Work Begi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CCS still off in the distance, we work hard to make some misste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 teacher meetings to verbalize and plan to address dissatisf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of ELA Surv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of Resources Used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2:33:33Z</dcterms:created>
  <dc:creator>NYCDOE</dc:creator>
  <dc:description/>
  <dc:language>en-US</dc:language>
  <cp:lastModifiedBy>NYCDOE</cp:lastModifiedBy>
  <dcterms:modified xsi:type="dcterms:W3CDTF">2011-05-21T11:41:05Z</dcterms:modified>
  <cp:revision>98</cp:revision>
  <dc:subject/>
  <dc:title>Curriculum Mapping for the Common Core Standards</dc:title>
</cp:coreProperties>
</file>